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EF8A-2F1B-4347-90B6-AC8F8C11C6A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5307-6A36-4DCA-90CD-46F39E90FB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9840" y="434340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P 2.0 content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features are suppor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HTML MP - WML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CSS M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ML scri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Push (WS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Caching Model (partl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browser provisioning (OTA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ll other features comply with WAP 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67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P 2.0 content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features are suppor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HTML MP - WML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CSS M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ML scri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Push (WS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Caching Model (partl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browser provisioning (OTA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ll other features comply with WAP 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73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information available in the “AD Products” fol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79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AD8B-8F34-4389-832C-EDE1E780B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4CF7-F861-43AC-832F-7E1DA1C02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3BAB-1E0D-478C-AD75-A55F322A2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B677-8EAB-4D0E-B322-35DBEE961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FEC2-2928-45B6-A245-A7CA56613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5D3F-AAC0-4A42-9B74-D5E4B42F5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D39F-9BA8-488D-9122-289E83F21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188E-E542-4ECC-B270-FB38DE4B3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56D7-BEF3-4FEB-8D27-76986D12C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BD0B-EE8B-4419-B1FF-9F546D315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5BF9-2CB5-4C90-8FDE-EEB93E83D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7F35-2FB3-4266-8BE8-D35175409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8BFB540C-6267-49E2-9EE4-842335D6FD9B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Phones</a:t>
            </a:r>
            <a:br>
              <a:rPr sz="3200"/>
            </a:br>
            <a:r>
              <a:rPr b="1" lang="en-GB" sz="3200" spc="-1" strike="noStrike">
                <a:solidFill>
                  <a:srgbClr val="9e1d3e"/>
                </a:solidFill>
                <a:latin typeface="Arial"/>
              </a:rPr>
              <a:t>CFX65  Product details &amp;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uly 2004 Christoph Boeing &amp; Matthias Wiltin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5840" y="1125360"/>
            <a:ext cx="70228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p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pet is a cute character in the style of a Japanese Manga. He is h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wner's constant companion and requires regular c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Photopet has various demands which must be fulfilled by his own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owner performs these actions (e.g. feeding) by taking snapshot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se are analysed by the game engine which then decides what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magochi actually gets (e.g., for dinner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ubble Bo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ubble Boost is a typical jump-and-run game with multiple graph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target of the game is for Luki to free his friends from their impriso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ok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oko is an Arcade dance game. The game takes full advantage of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lyphonic music capabil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aim of Mobiloko is to make 'Mani' dance to the ringtone melody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eep him in time with the beat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is new version of Mobiloko also enables the users to use their ow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s as game backg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410" t="0" r="0" b="901"/>
          <a:stretch/>
        </p:blipFill>
        <p:spPr>
          <a:xfrm>
            <a:off x="7068960" y="1128600"/>
            <a:ext cx="1878120" cy="1446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rcRect l="1154" t="2245" r="0" b="0"/>
          <a:stretch/>
        </p:blipFill>
        <p:spPr>
          <a:xfrm>
            <a:off x="7094520" y="2611440"/>
            <a:ext cx="1846440" cy="1460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 – G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rcRect l="0" t="0" r="0" b="610"/>
          <a:stretch/>
        </p:blipFill>
        <p:spPr>
          <a:xfrm>
            <a:off x="7095960" y="4108320"/>
            <a:ext cx="1847880" cy="1538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8490-ADD4-4C09-BAEA-665A61549E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ed problems &amp; Customer inquiries &amp; Latest 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760" y="1125360"/>
            <a:ext cx="828828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ustomers might complain about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low and bad log on present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SM noise during c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CM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ow scrolling through men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ything else is not possible to speculate about as we have to wait for a (final) customer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hat else might be interesting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first really ‘useful’ software version is 4.024 but still with several bugs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Actual Software is 4.027 - all other software versions may deny incoming calls and have several other mainly severe bu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ll Centre Monitor Version 1.07 will be implemente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minute of torch mode reduces standby time about 35 minu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attery have to be almost full to perform a software update. Otherwise the update does not start and no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8F2C-7986-404E-9591-C355C3E265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5092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25236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5236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464508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508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508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943360" y="1579680"/>
            <a:ext cx="1701720" cy="437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B402-627A-4185-979B-006DDC73D20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7500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0244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200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788000" y="1160640"/>
            <a:ext cx="1879560" cy="2387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6240" y="3733920"/>
            <a:ext cx="413532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ed LED flash &amp; tor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ed VGA camer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ull MMS and messaging capab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65k internal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 tones with 40 cho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hameleon colour eff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AD11-5157-4E61-8C5E-5B6C9E75CC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14360" y="1947960"/>
            <a:ext cx="30225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Young, fashionable desig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tylish colour &amp; material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mshell form with antenna lo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st value for mon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360" y="4344840"/>
            <a:ext cx="3022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ll range of photo functionalities: Photo editor / messaging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nd: 40 cho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0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08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9440" y="5024520"/>
            <a:ext cx="27828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708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900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07080" y="424008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59440" y="1947960"/>
            <a:ext cx="302256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VGA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LED 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: 65k colors, CSTN (160 x 128) &amp; subdisplay (96 x 64), s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tensive Messaging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SMS, EMS, MMS, IM, E-mai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PRS Class 10, WAP 2.0, Java, Ir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4479840"/>
            <a:ext cx="96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05120" y="1251000"/>
            <a:ext cx="1717920" cy="47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142E-0144-434E-A3FD-043EB9B723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43120" y="5443560"/>
            <a:ext cx="1457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-up Colour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hamele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5440" y="5443560"/>
            <a:ext cx="1320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cond Colour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lue Pear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38320" y="1276200"/>
            <a:ext cx="2949480" cy="4127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57640" y="1276200"/>
            <a:ext cx="2949840" cy="412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004F-BE94-4572-9015-07CDD80B16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4920" y="11397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56160" y="1387440"/>
            <a:ext cx="155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11397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8560" y="1387440"/>
            <a:ext cx="149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562200" y="1471680"/>
            <a:ext cx="1711440" cy="4781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4360" y="1876320"/>
            <a:ext cx="302256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ght/Volume/Dim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8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8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5 x48 x23 [mm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l loop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7 x48 x23 [mm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. loop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ndby / Talk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p to 200 h / 200 mi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mera &amp; integrated 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VGA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ilt-in photo flash 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D flash can be used as to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play &amp; Key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. display: 65k colours, 160x128 pixel – ext. display: 96x64 pix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ndchip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40 ch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-Ion 600 m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59440" y="1876320"/>
            <a:ext cx="302256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S rel.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mail (POP3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net &amp; Conne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al-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 2.0, Java MID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EE9C-19AF-4B1F-A9A8-71DE6F7653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1880" y="1165320"/>
            <a:ext cx="14702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000" y="208296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9600" y="218592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ile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880" y="208296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55640" y="2095560"/>
            <a:ext cx="14446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00 mA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0320" y="2082960"/>
            <a:ext cx="14716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24520" y="218592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08296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7440" y="218592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6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2082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73920" y="218592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31880" y="2654280"/>
            <a:ext cx="146844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75240" y="27576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00320" y="2654280"/>
            <a:ext cx="147168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30160" y="27576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265428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14720" y="2757600"/>
            <a:ext cx="80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grade K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O-6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3225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72120" y="332892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31880" y="322596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4960" y="332892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1880" y="379728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48320" y="399096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4840" y="2095560"/>
            <a:ext cx="1469880" cy="571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1040" y="218592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79728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5480" y="390060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St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225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89440" y="332892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00320" y="3225960"/>
            <a:ext cx="14716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0880" y="332892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1880" y="4368960"/>
            <a:ext cx="1468440" cy="57132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6640" y="456264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892760"/>
            <a:ext cx="250920" cy="14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36080" y="4883400"/>
            <a:ext cx="137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upports Phone S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81560" y="5108400"/>
            <a:ext cx="250920" cy="14796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96120" y="5099400"/>
            <a:ext cx="22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81560" y="532620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96120" y="5316840"/>
            <a:ext cx="22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555624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66320" y="5547240"/>
            <a:ext cx="80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32480" y="5794920"/>
            <a:ext cx="1495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26607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7160" y="276372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Acces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8640" y="1284120"/>
            <a:ext cx="1416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9920" y="1398600"/>
            <a:ext cx="133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26520" y="1284120"/>
            <a:ext cx="162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00880" y="1284120"/>
            <a:ext cx="1211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8320" y="1284120"/>
            <a:ext cx="1195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1640" y="1398600"/>
            <a:ext cx="12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C805-6BF8-48A8-88A3-DA6D898773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1125360"/>
            <a:ext cx="698472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offers an optimised wearing comfort by holder and earpiece hinge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 up to date – link your mobile phone to a PC with the Data Cable USB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d synchronise your data or transfer multimedia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hare moments in all lighting conditions, for example, at a party or in 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isco ... Indoor or low-light photo quality is greatly improved with 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ttachable flash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he Car Kit Easy allows convenient handsfree talking with high spee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ality by simply connecting the unit to the cigarette lighter socket (12V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d inserting the mobile phone in the integrated hold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4960" t="0" r="4268" b="0"/>
          <a:stretch/>
        </p:blipFill>
        <p:spPr>
          <a:xfrm>
            <a:off x="7396200" y="1413000"/>
            <a:ext cx="1177920" cy="2663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Acces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97680" y="4437000"/>
          <a:ext cx="165276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97680" y="4437000"/>
                    <a:ext cx="16527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B976-7263-42F5-A2FD-1239D1B6A4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197000"/>
            <a:ext cx="629928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MS pictures, Ringtones, et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t of Themes/Downloa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ty &amp; City Li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stant Messaging Client (Wireless Village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oto Edi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t Converter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 &amp; Enter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bilok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otop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bble Bo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 Client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sed on Instant Messaging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08800" y="1109520"/>
            <a:ext cx="1457280" cy="1152720"/>
          </a:xfrm>
          <a:prstGeom prst="rect">
            <a:avLst/>
          </a:prstGeom>
          <a:ln w="0">
            <a:noFill/>
          </a:ln>
        </p:spPr>
      </p:pic>
      <p:pic>
        <p:nvPicPr>
          <p:cNvPr id="239" name="afterpos3_import2" descr=""/>
          <p:cNvPicPr/>
          <p:nvPr/>
        </p:nvPicPr>
        <p:blipFill>
          <a:blip r:embed="rId3"/>
          <a:stretch/>
        </p:blipFill>
        <p:spPr>
          <a:xfrm>
            <a:off x="7281720" y="1719360"/>
            <a:ext cx="1455840" cy="1154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rcRect l="0" t="0" r="0" b="610"/>
          <a:stretch/>
        </p:blipFill>
        <p:spPr>
          <a:xfrm>
            <a:off x="5610240" y="2828880"/>
            <a:ext cx="145584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7253280" y="3281400"/>
          <a:ext cx="1398600" cy="13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3280" y="3281400"/>
                    <a:ext cx="13986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081B-A9E1-4A20-B170-56FAE419CA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Oliver Girke</dc:creator>
  <dc:description/>
  <dc:language>en-US</dc:language>
  <cp:lastModifiedBy> </cp:lastModifiedBy>
  <cp:lastPrinted>2004-02-23T20:18:27Z</cp:lastPrinted>
  <dcterms:modified xsi:type="dcterms:W3CDTF">2004-07-22T11:20:16Z</dcterms:modified>
  <cp:revision>315</cp:revision>
  <dc:subject/>
  <dc:title>PowerPoint Presentation</dc:title>
</cp:coreProperties>
</file>